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838-5132-40D0-898E-AB9BB550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884-952F-439B-AB1C-331E8E1F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F76-D636-4C22-A106-68C178EE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D109-C11A-4CAA-82FE-A553C8AE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2365-FD02-4A43-BE49-5C8BCC5C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92EF-6B9D-495A-BD9C-8AF81E46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3443-20D2-46D3-B11D-B6D45E92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9C5A-E746-4298-AC94-76E6467B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D85F-A206-4678-9034-36819592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EDD2-E37F-4F2E-BA13-E4271163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175B-5561-4A50-B1ED-79E46506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7C8-5190-4B8B-BB9E-CE75D963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2E93-C502-4860-B478-CC80867C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755B-22C3-4DAA-8A09-FF226E78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EA95-9535-407F-8046-4A0BAE91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C143-921E-4BB5-A671-E86CB50E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B2E3-0EBC-46A4-9A07-FED4512E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3310-25CF-4ECE-8944-2267D82A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8812-EBFE-477D-96CA-638F4EC0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5109B-D07E-406E-AAF4-938EB2CA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B55E-49E2-40DC-8C8B-EA6B15AC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0B2DF-B884-4C6D-A412-68ACEBD0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777-0504-40E6-B31D-CDC02D5A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8180-B92A-4F57-81A5-0449A76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81D6-8B7B-4B34-B94A-D30046C1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CB54-267C-40DF-BCD7-3C3914BC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B433-5736-4A3A-AB36-3F220AD7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4A3B6-06D4-4DD6-9C49-04582490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935B-4CDF-4746-BFB9-35940EE98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1CA9F-DDF1-4488-A15F-790B7179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AED52-DCB9-489A-9E44-610AB713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7A995-F067-4D35-ACEB-FD8EE4A9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EFCE-B822-4EF1-BD8B-13315830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226-1149-4E7D-9B1E-112C956F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D430E-3C85-463B-AF46-CE2B449A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B4BBB-FFA1-49EC-9662-77B48E9D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688F3-EE5F-4312-B8B6-E859C3A0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AB49D-8F59-4B61-8BAE-189E577D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A234A-CA71-4EF4-9EA7-0A4CB8CC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530F-1D2B-4865-B98E-21CA59A0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8571-F99D-442D-BECF-289F66F5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29A1-9BD0-47F7-81A9-767EDCC7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FDEA-020A-4F5C-9BBE-D60BBAF7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E756-89AD-443E-A9FD-9E198FE8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70C-33F5-4A7D-BD84-77B7D169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138-E386-48E8-91AB-4F91F89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8C5-1947-40D4-82AE-195A813E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3B1-177B-45E0-844D-EE98735F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E319-8D8D-49C8-AED0-66FE6ACB69B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F650-8955-4714-A5B2-7B03BEBC41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FD4D-EA17-4B8F-9309-A5C434668F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13A7-ABD7-456E-9C05-DF49DFD584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логический 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580000" y="53737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2195640" y="1989000"/>
            <a:ext cx="63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54061"/>
                </a:solidFill>
                <a:latin typeface="Arial"/>
              </a:rPr>
              <a:t>Сохраним планету – сохраним ми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ша планета Земля!!!!!!!!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Содержимое 3" descr="0246.jpg"/>
          <p:cNvPicPr/>
          <p:nvPr/>
        </p:nvPicPr>
        <p:blipFill>
          <a:blip r:embed="rId1"/>
          <a:stretch/>
        </p:blipFill>
        <p:spPr>
          <a:xfrm>
            <a:off x="1000080" y="1643040"/>
            <a:ext cx="1657440" cy="12574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Друзья.jpg"/>
          <p:cNvPicPr/>
          <p:nvPr/>
        </p:nvPicPr>
        <p:blipFill>
          <a:blip r:embed="rId2"/>
          <a:stretch/>
        </p:blipFill>
        <p:spPr>
          <a:xfrm>
            <a:off x="3143160" y="1500120"/>
            <a:ext cx="5616720" cy="42116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j0178656.jpg"/>
          <p:cNvPicPr/>
          <p:nvPr/>
        </p:nvPicPr>
        <p:blipFill>
          <a:blip r:embed="rId3"/>
          <a:stretch/>
        </p:blipFill>
        <p:spPr>
          <a:xfrm>
            <a:off x="214200" y="350028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охраним родную при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3" descr="10.jpg"/>
          <p:cNvPicPr/>
          <p:nvPr/>
        </p:nvPicPr>
        <p:blipFill>
          <a:blip r:embed="rId1"/>
          <a:stretch/>
        </p:blipFill>
        <p:spPr>
          <a:xfrm>
            <a:off x="1266840" y="1600200"/>
            <a:ext cx="6610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 апреля – всемирный день Земли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7 год - год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 же так получается, что планета вращается, что планета вращается несмотря ни на чт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 мы вроде бы умные – о природе не думаем, и , конечно, не думаем, что же дальше нас ждет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хранить природу – это сохранить жизн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й заповедник был создан в Соединенных Штатах Америки в 1832 г., Там же в 1872 был открыт первый национальный парк – Иеллоустонск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год во всем мире в водоемы попадают столько вредных веществ, что ими можно было бы наполнить 10 тысяч товарных поездов. Даже во льдах Арктики нашли стиральный порош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иви,родник,жив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зеро Байкал, содержит 1/3 мировых запасов пресной воды потеряло способность самоочищаться. За последние 60 лет на планете исчезли 77 видов животных и несколько сотен видов растений, 26 видов птиц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 территории нашей страны выделено около 300 ареалов с острой экологической ситуацией. Они занимают 16 % ее площади,или 3,7 млн км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мните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умага будет лежать 2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сервная банка –более 3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лиэтиленовый пакет – более 2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екло – более 1000 л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еловек! Запомни навсегда:Символ жизни на земле – вода! Экономь ее и береги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Содержимое 3" descr="0241.jpg"/>
          <p:cNvPicPr/>
          <p:nvPr/>
        </p:nvPicPr>
        <p:blipFill>
          <a:blip r:embed="rId1"/>
          <a:stretch/>
        </p:blipFill>
        <p:spPr>
          <a:xfrm>
            <a:off x="1428840" y="1571760"/>
            <a:ext cx="5932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ная книга растений Кры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4608720" cy="345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896760" y="22320"/>
            <a:ext cx="5008680" cy="316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455760" y="3573360"/>
            <a:ext cx="3108240" cy="313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3708360" y="2637000"/>
            <a:ext cx="511164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20:20:36Z</dcterms:created>
  <dc:creator>Admin</dc:creator>
  <dc:description/>
  <dc:language>en-US</dc:language>
  <cp:lastModifiedBy>RePack by Diakov</cp:lastModifiedBy>
  <dcterms:modified xsi:type="dcterms:W3CDTF">2017-01-30T16:48:31Z</dcterms:modified>
  <cp:revision>9</cp:revision>
  <dc:subject/>
  <dc:title>На пороге экологической катастрофы</dc:title>
</cp:coreProperties>
</file>